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87C-FDC2-47F3-9B3F-7F643FED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6D8-7C9E-4500-AB6D-B0528B49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621-3ADC-4757-89F3-E83531C6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318-6FB4-4E35-9EC7-14CC68E5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42C-EA4A-49F0-BA43-2D688323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A3B-C366-4B14-9E05-FBAC85B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E01-36FB-4AFF-AD2A-DB81DA7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47E9-3D5B-4760-8B57-C3F16F3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8AAB-B8E7-4850-A556-CE329DD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A725-CFF9-4446-9EAD-E39905C7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F2DB-173D-45B3-87B3-5A6E2CF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92D-A945-4CCC-9B42-0FED6C00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357A-C683-485E-966C-D7B1E73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93A6-E5E7-41E6-AAFE-2D2044C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471E-5D5C-46CD-AFAE-E51DE847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3B93-F31A-48FD-85E8-9E89C8E9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16F9-4AE1-476E-8359-8675A4DB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F92-1BFC-44E8-8C7B-3DC90721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09B-EC27-41A7-8122-DDF4F30A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D5-A17F-4935-9C36-5C6D6B0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DCC-BE81-4B0F-A863-B9B35296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4EE-BB40-4FE0-8C82-16915C5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914-B1C9-4558-9322-5067EF3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461-5792-4776-8A7E-EFE28A4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B03E-6BAF-4D3B-B3CC-9F1498CB49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234-28EB-4ABB-B91B-965509C779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Improvement Plans 2008-09 Revi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Development 2008-09 Gu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ublic Schools in 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Emph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I. Monitoring and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program activities to support students having difficulties and also how teachers can base the effectiveness of these strategies and inter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X. Fiscal Requir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Clearly show how fiscal resources are being allocated to help support the SIP (ex: line ite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 Ongoing Progra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 the 2 year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timeframe followed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g of revisions is k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used to monitor implementation of th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*Evaluation of the S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valuation chart submitted as a part of the S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plan for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the plan implemented as 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 the plan 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evel P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Must have a Table of Contents with page numbers li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Include the location of elements required by regulations (for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evel Plan Approv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ubmitted to the SST for recommendation of appro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al by the L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I schools submit plan &amp;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er Revie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recommended ye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required if it is the initial plan or the school has moved up a level in 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D Accountability Workbook 6/08 USDOE Appro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ndments to Critical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ccountability System – 10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ublic Schools (both Title I &amp; non Title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the School Improve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Emphasis &amp; Considerations for 08-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. Plan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I Planning Framework document -Parent(s) not employed by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ocument leadership team timeline &amp; 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tated mission and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. Comprehensive Needs Assess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ata analysis, minimum reading and math modules for SW &amp; accredit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form (where have you been, where are you and what are the next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areas that put school into 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oth state and loc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 Goals, Objectives, and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Tie in SBR in with strategies to reach goals specific to all grades and subgroups in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pecific measurable objectives that meet the AMO, Safe Harbor, or Confidence Interval allow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ors that judge effectiveness no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V. Highly Qualified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e strategies for both recruitment and placement of HQ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. Profession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Schools in improvement link PD plan to area(s) that put the school into improvement and identified stud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Articulate an implemented teacher mentoring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. Parent Involvement &amp;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dicate strategies to increase parent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ocument parental input into the S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escribe what PD is being provided for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chool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. Tran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plan strategies both into the level and exit to the next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Include Special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5:00:37Z</dcterms:created>
  <dc:creator>HP Authorized Customer</dc:creator>
  <dc:description/>
  <dc:language>en-US</dc:language>
  <cp:lastModifiedBy>HP Authorized Customer</cp:lastModifiedBy>
  <dcterms:modified xsi:type="dcterms:W3CDTF">2008-09-09T18:49:46Z</dcterms:modified>
  <cp:revision>13</cp:revision>
  <dc:subject/>
  <dc:title>School Improvement Plans 2008-09 Revisions</dc:title>
</cp:coreProperties>
</file>